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F77E-7704-4F05-ACD7-79E723B7F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A790-EF91-419A-822E-9EFC919FC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1B35-E833-4BE9-B481-470844E8F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8E11-49F8-4728-967E-73C67F417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85258-A186-4BE3-B0A9-79C250748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9A2E6-8221-414F-9794-24F0CD569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23739-1DE3-44B2-9AAC-A42C66F21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0E03E-ADFA-4136-B364-DF1B908B8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30E2A-6990-4FEB-9625-FAAB6DCF5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39D7D-90BA-4FA8-B250-6D44E09A5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B11D9-9EAD-41D4-9FD1-D7A57FEF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BB3B-0419-481D-8EB3-C79E16543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22C21-5F2C-439B-A139-2BBBA425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7550B-1234-4F35-84FF-663AB6E4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EB3F0-07E4-47D1-98FB-6BF4FB372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9E5C9-5D8B-463C-BC30-7730E1D36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1200E-1A03-4FBE-82E4-B46B51D1D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F750-FB55-4A3A-AD2F-681C59159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EFFE-D721-45A5-8BA5-BF6003E9C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8AA8-138C-4B3C-B457-D4E9CF6BD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6D3F-C4D0-4F1D-84E7-C1F374D5D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8AF9-D44E-4E84-9793-EB9C082C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6891-A74F-43CD-A96F-D2B7BADD2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C513-16DB-4F92-BBE9-246A05E2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72FAC-6BC6-42B2-B544-77F146A29D7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3323F-1871-4B54-B517-C6DBBF73309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0066"/>
                </a:solidFill>
                <a:latin typeface="Arial"/>
              </a:rPr>
              <a:t>Course:</a:t>
            </a:r>
            <a:br>
              <a:rPr sz="5000"/>
            </a:br>
            <a:r>
              <a:rPr b="1" lang="en-US" sz="5000" spc="-1" strike="noStrike">
                <a:solidFill>
                  <a:srgbClr val="330066"/>
                </a:solidFill>
                <a:latin typeface="Arial"/>
              </a:rPr>
              <a:t>Fundamentals of Research</a:t>
            </a:r>
            <a:endParaRPr b="1" lang="en-US" sz="5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art II: Data Colle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orkshop 9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bjectiv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the characteristics of experimental research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derstand the principles of sampl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ntify the major types of experimental designs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ign a valid experime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o you remember methods of collecting data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are some methods of collecting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ivity sheet 1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es Music Matte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47640" y="3645000"/>
            <a:ext cx="590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at is the experimental research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6868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stablish cause-effect relationshi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ntify independent and dependent variabl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lid experime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ivity sheet 2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sy English Progra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79640" y="4365720"/>
            <a:ext cx="49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o should be included in a research study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se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ivity sheet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es Exercise Matte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40000" y="450864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at are experimental designs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- Pretest-posttest Control Group Desig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- Quasi-experimental Desig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- Time series Desig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- Withdrawal Desig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mewor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a Bag Experi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330066"/>
                </a:solidFill>
                <a:latin typeface="Arial"/>
              </a:rPr>
              <a:t>Thank you</a:t>
            </a:r>
            <a:endParaRPr b="1" lang="en-US" sz="6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16:26:51Z</dcterms:created>
  <dc:creator>user</dc:creator>
  <dc:description/>
  <dc:language>en-US</dc:language>
  <cp:lastModifiedBy>Fatam</cp:lastModifiedBy>
  <dcterms:modified xsi:type="dcterms:W3CDTF">2008-05-11T18:50:53Z</dcterms:modified>
  <cp:revision>16</cp:revision>
  <dc:subject/>
  <dc:title>Course: Fundamentals of Research</dc:title>
</cp:coreProperties>
</file>